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AE9A-9E94-46D6-A386-EB493F3F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79EA-6DF6-46F7-BA9B-856ECF7C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F53C-4012-40A2-A2F2-1756BCBF9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C85D-FD0C-4628-8CA0-3BC23661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9929-0672-4296-A9DD-CA6A5090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7746-A4F4-42DF-B6EB-4220118B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A180-E2EE-46C3-B779-192FD26F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1F8F-22D4-47EF-881C-0D369075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824C-BC18-470D-A1BA-0630E0EC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A77D-A189-462B-8889-FB14B9B9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0149-ACBA-4C57-8800-05C08313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90F5-2C0B-46F7-B786-55A75E1B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D266-CCDE-4A8F-BDC3-4FE1E1C96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187280" y="1052640"/>
            <a:ext cx="684072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DAL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UXILIARIES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324000" y="404640"/>
            <a:ext cx="8208720" cy="59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- Son verbos especiales. No se pueden conjugar en todos los tiempos y tampoco tienen infinitiv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- La tercera persona del singular del presente no lleva "s"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We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can sleep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 on the flo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She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can type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 a let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- Van siempre seguidos de infinitivo sin "to"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She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must be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 his moth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They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must clean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 their ro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You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can stay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 he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3929040" y="-720"/>
            <a:ext cx="128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CA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79280" y="907920"/>
          <a:ext cx="8564760" cy="1081080"/>
        </p:xfrm>
        <a:graphic>
          <a:graphicData uri="http://schemas.openxmlformats.org/drawingml/2006/table">
            <a:tbl>
              <a:tblPr/>
              <a:tblGrid>
                <a:gridCol w="2376720"/>
                <a:gridCol w="3024000"/>
                <a:gridCol w="316404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 + infinitiv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not / can’t + infinitiv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 + sujeto + infinitivo 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Rectangle 44"/>
          <p:cNvSpPr/>
          <p:nvPr/>
        </p:nvSpPr>
        <p:spPr>
          <a:xfrm>
            <a:off x="250920" y="2059920"/>
            <a:ext cx="828036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I 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can go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I 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can’t go</a:t>
            </a:r>
            <a:r>
              <a:rPr b="1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Can </a:t>
            </a:r>
            <a:r>
              <a:rPr b="1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I 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go</a:t>
            </a:r>
            <a:r>
              <a:rPr b="1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PUESTA COR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+ Yes, I can                   -- No, I can’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- Para expresar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osibilid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I </a:t>
            </a:r>
            <a:r>
              <a:rPr b="0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can’t go</a:t>
            </a:r>
            <a:r>
              <a:rPr b="0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with you </a:t>
            </a:r>
            <a:r>
              <a:rPr b="0" i="1" lang="en-GB" sz="3200" spc="-1" strike="noStrike">
                <a:solidFill>
                  <a:srgbClr val="333300"/>
                </a:solidFill>
                <a:latin typeface="Arial"/>
                <a:ea typeface="Times New Roman"/>
              </a:rPr>
              <a:t>(No puedo ir contigo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-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ara expresar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abilid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I </a:t>
            </a:r>
            <a:r>
              <a:rPr b="0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can swim</a:t>
            </a:r>
            <a:r>
              <a:rPr b="0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333300"/>
                </a:solidFill>
                <a:latin typeface="Arial"/>
                <a:ea typeface="Times New Roman"/>
              </a:rPr>
              <a:t>(Sé nadar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- Para expresar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ermis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00"/>
                </a:solidFill>
                <a:latin typeface="Arial"/>
                <a:ea typeface="Times New Roman"/>
              </a:rPr>
              <a:t>	</a:t>
            </a:r>
            <a:r>
              <a:rPr b="0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Can </a:t>
            </a:r>
            <a:r>
              <a:rPr b="0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I</a:t>
            </a:r>
            <a:r>
              <a:rPr b="0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come in</a:t>
            </a:r>
            <a:r>
              <a:rPr b="0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? </a:t>
            </a:r>
            <a:r>
              <a:rPr b="0" i="1" lang="en-GB" sz="3200" spc="-1" strike="noStrike">
                <a:solidFill>
                  <a:srgbClr val="333300"/>
                </a:solidFill>
                <a:latin typeface="Arial"/>
                <a:ea typeface="Times New Roman"/>
              </a:rPr>
              <a:t>(¿Puedo entrar?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6"/>
          <p:cNvSpPr/>
          <p:nvPr/>
        </p:nvSpPr>
        <p:spPr>
          <a:xfrm>
            <a:off x="2627280" y="350028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2 Rectángulo"/>
          <p:cNvSpPr/>
          <p:nvPr/>
        </p:nvSpPr>
        <p:spPr>
          <a:xfrm>
            <a:off x="2500200" y="28584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COU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22120" y="1428840"/>
          <a:ext cx="8778960" cy="1179360"/>
        </p:xfrm>
        <a:graphic>
          <a:graphicData uri="http://schemas.openxmlformats.org/drawingml/2006/table">
            <a:tbl>
              <a:tblPr/>
              <a:tblGrid>
                <a:gridCol w="2475000"/>
                <a:gridCol w="2946600"/>
                <a:gridCol w="3357360"/>
              </a:tblGrid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ld + infinitiv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ld not / couldn’t + infinitiv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ld + sujeto + infinitivo 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4 Rectángulo"/>
          <p:cNvSpPr/>
          <p:nvPr/>
        </p:nvSpPr>
        <p:spPr>
          <a:xfrm>
            <a:off x="285840" y="2714760"/>
            <a:ext cx="864396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I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could go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i="1" lang="en-GB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I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couldn’t go</a:t>
            </a:r>
            <a:r>
              <a:rPr b="1" i="1" lang="en-GB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i="1" lang="en-GB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Could </a:t>
            </a:r>
            <a:r>
              <a:rPr b="1" i="1" lang="en-GB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I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go</a:t>
            </a:r>
            <a:r>
              <a:rPr b="1" i="1" lang="en-GB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SPUESTA CORT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+ Yes, I could                   -- No, I couldn’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 el pasado de CAN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0" i="1" lang="en-GB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I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couldn’t go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 with you </a:t>
            </a:r>
            <a:r>
              <a:rPr b="0" i="1" lang="en-GB" sz="2800" spc="-1" strike="noStrike">
                <a:solidFill>
                  <a:srgbClr val="333300"/>
                </a:solidFill>
                <a:latin typeface="Arial"/>
                <a:ea typeface="Times New Roman"/>
              </a:rPr>
              <a:t>(No pude ir contigo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I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could swim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333300"/>
                </a:solidFill>
                <a:latin typeface="Arial"/>
                <a:ea typeface="Times New Roman"/>
              </a:rPr>
              <a:t>(Sabía nada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3708360" y="125280"/>
            <a:ext cx="162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MUS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87280" y="907920"/>
          <a:ext cx="8856720" cy="731880"/>
        </p:xfrm>
        <a:graphic>
          <a:graphicData uri="http://schemas.openxmlformats.org/drawingml/2006/table">
            <a:tbl>
              <a:tblPr/>
              <a:tblGrid>
                <a:gridCol w="2068560"/>
                <a:gridCol w="3448080"/>
                <a:gridCol w="3340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st + infinitiv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</a:t>
                      </a: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 not / mustn’t + infinitiv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st + sujeto + infinitivo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Rectangle 44"/>
          <p:cNvSpPr/>
          <p:nvPr/>
        </p:nvSpPr>
        <p:spPr>
          <a:xfrm>
            <a:off x="0" y="1969200"/>
            <a:ext cx="889308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I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must go       </a:t>
            </a:r>
            <a:r>
              <a:rPr b="1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I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mustn’t go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Must </a:t>
            </a:r>
            <a:r>
              <a:rPr b="1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I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go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PUESTA COR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+ Yes, I must                   -- No, I mustn’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- Para expresar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bligació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I </a:t>
            </a:r>
            <a:r>
              <a:rPr b="0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must study </a:t>
            </a:r>
            <a:r>
              <a:rPr b="0" i="1" lang="en-GB" sz="3200" spc="-1" strike="noStrike">
                <a:solidFill>
                  <a:srgbClr val="333300"/>
                </a:solidFill>
                <a:latin typeface="Arial"/>
                <a:ea typeface="Times New Roman"/>
              </a:rPr>
              <a:t>(Debo estudiar</a:t>
            </a:r>
            <a:r>
              <a:rPr b="0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-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n negativ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para expresar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ohibició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You </a:t>
            </a:r>
            <a:r>
              <a:rPr b="0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mustn't open</a:t>
            </a:r>
            <a:r>
              <a:rPr b="0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the window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0" i="1" lang="en-GB" sz="3200" spc="-1" strike="noStrike">
                <a:solidFill>
                  <a:srgbClr val="333300"/>
                </a:solidFill>
                <a:latin typeface="Arial"/>
                <a:ea typeface="Times New Roman"/>
              </a:rPr>
              <a:t>(No </a:t>
            </a:r>
            <a:r>
              <a:rPr b="0" i="1" lang="en-GB" sz="3200" spc="-1" strike="noStrike">
                <a:solidFill>
                  <a:srgbClr val="333300"/>
                </a:solidFill>
                <a:latin typeface="Arial"/>
                <a:ea typeface="Times New Roman"/>
              </a:rPr>
              <a:t>	</a:t>
            </a:r>
            <a:r>
              <a:rPr b="0" i="1" lang="en-GB" sz="3200" spc="-1" strike="noStrike">
                <a:solidFill>
                  <a:srgbClr val="333300"/>
                </a:solidFill>
                <a:latin typeface="Arial"/>
                <a:ea typeface="Times New Roman"/>
              </a:rPr>
              <a:t>debes/puedes abrir la ventana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1 Rectángulo"/>
          <p:cNvSpPr/>
          <p:nvPr/>
        </p:nvSpPr>
        <p:spPr>
          <a:xfrm>
            <a:off x="3286080" y="357120"/>
            <a:ext cx="278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SHOU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14200" y="1357200"/>
          <a:ext cx="8778960" cy="1179720"/>
        </p:xfrm>
        <a:graphic>
          <a:graphicData uri="http://schemas.openxmlformats.org/drawingml/2006/table">
            <a:tbl>
              <a:tblPr/>
              <a:tblGrid>
                <a:gridCol w="2475000"/>
                <a:gridCol w="2946600"/>
                <a:gridCol w="3357360"/>
              </a:tblGrid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ould + infinitiv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ould not / shouldn’t + infinitiv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ould + sujeto + infinitivo 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3 Rectángulo"/>
          <p:cNvSpPr/>
          <p:nvPr/>
        </p:nvSpPr>
        <p:spPr>
          <a:xfrm>
            <a:off x="285840" y="2550960"/>
            <a:ext cx="84294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  </a:t>
            </a:r>
            <a:r>
              <a:rPr b="1" i="1" lang="en-GB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 </a:t>
            </a:r>
            <a:r>
              <a:rPr b="1" i="1" lang="en-GB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should go</a:t>
            </a:r>
            <a:r>
              <a:rPr b="1" i="1" lang="en-GB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i="1" lang="en-GB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i="1" lang="en-GB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i="1" lang="en-GB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 </a:t>
            </a:r>
            <a:r>
              <a:rPr b="1" i="1" lang="en-GB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shouldn’t go</a:t>
            </a:r>
            <a:r>
              <a:rPr b="1" i="1" lang="en-GB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i="1" lang="en-GB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i="1" lang="en-GB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Should </a:t>
            </a:r>
            <a:r>
              <a:rPr b="1" i="1" lang="en-GB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 </a:t>
            </a:r>
            <a:r>
              <a:rPr b="1" i="1" lang="en-GB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go</a:t>
            </a:r>
            <a:r>
              <a:rPr b="1" i="1" lang="en-GB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PUESTA COR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+ Yes, I should                   -- No, I shouldn’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 usa para dar consejo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4 Rectángulo"/>
          <p:cNvSpPr/>
          <p:nvPr/>
        </p:nvSpPr>
        <p:spPr>
          <a:xfrm>
            <a:off x="1071720" y="485784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You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shouldn’t go</a:t>
            </a:r>
            <a:r>
              <a:rPr b="0" i="1" lang="en-GB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 with him </a:t>
            </a:r>
            <a:r>
              <a:rPr b="0" i="1" lang="en-GB" sz="1800" spc="-1" strike="noStrike">
                <a:solidFill>
                  <a:srgbClr val="333300"/>
                </a:solidFill>
                <a:latin typeface="Arial"/>
                <a:ea typeface="Times New Roman"/>
              </a:rPr>
              <a:t>(No debes/deberías ir con  é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he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should swim</a:t>
            </a:r>
            <a:r>
              <a:rPr b="0" i="1" lang="en-GB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i="1" lang="en-GB" sz="1800" spc="-1" strike="noStrike">
                <a:solidFill>
                  <a:srgbClr val="333300"/>
                </a:solidFill>
                <a:latin typeface="Arial"/>
                <a:ea typeface="Times New Roman"/>
              </a:rPr>
              <a:t>(Debe/debería nada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0" y="90864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iII in the blanks with A MODAL VERB affirmative or negativ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Britain, you _________ drive on the righ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. We ___________ buy some food. We've got nothing for dinn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4. My mother says I_________ go out tonight. I _________ stud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5. This wasn’t a secret. You _______ tell everybody last week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6. Mary __________ go to the doctor if she wants to go to the part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8"/>
          <p:cNvSpPr txBox="1"/>
          <p:nvPr/>
        </p:nvSpPr>
        <p:spPr>
          <a:xfrm>
            <a:off x="3564000" y="404640"/>
            <a:ext cx="2076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ractice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611280" y="1873080"/>
            <a:ext cx="80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. In Britain, you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USTN’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rive on the righ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We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US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y some food. We've got nothing for dinn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.4. My mother says I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AN’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out tonight. I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US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stud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. This wasn’t a secret. You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OUL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ll everybody last week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5"/>
          <p:cNvSpPr txBox="1"/>
          <p:nvPr/>
        </p:nvSpPr>
        <p:spPr>
          <a:xfrm>
            <a:off x="3419640" y="549360"/>
            <a:ext cx="2543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SWER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1" name="5 Rectángulo"/>
          <p:cNvSpPr/>
          <p:nvPr/>
        </p:nvSpPr>
        <p:spPr>
          <a:xfrm>
            <a:off x="571680" y="4000680"/>
            <a:ext cx="75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6. Mary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SHOUL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go to the doctor if she wants to go to the part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8T13:49:55Z</dcterms:created>
  <dc:creator>rmi</dc:creator>
  <dc:description/>
  <dc:language>en-US</dc:language>
  <cp:lastModifiedBy>mcc</cp:lastModifiedBy>
  <dcterms:modified xsi:type="dcterms:W3CDTF">2011-02-18T10:21:02Z</dcterms:modified>
  <cp:revision>10</cp:revision>
  <dc:subject/>
  <dc:title>Diapositiva 1</dc:title>
</cp:coreProperties>
</file>